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469-D039-4090-9FBD-28723B6B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EB4B-19E0-4A35-B5BF-899317F1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899-919A-44EF-A476-F967248F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7B1-C35D-49D7-9EA3-FA986AB0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1BC4-9D74-47DE-A2F5-B6B92A71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EE90-666F-42A6-989F-934F5D18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2C76-4E61-402E-B861-37CF58AE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239D-D8E9-4C80-BACF-96024F30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6A64-D1A7-4D03-991B-4A54864E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10B9-2276-4362-B3BD-CBC5921D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A6D3-9393-4E0E-AA1D-FB3D9B12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AE7-E8EE-4196-93D0-473E1036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5AEA-A630-4DD7-8CE1-EE9E7892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62FF-C8F5-4270-A241-D5CC9F2A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FAC0-3F7F-4BDF-B180-ED2510AA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9DD4-48F9-4170-9DB6-61C93E54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E95A-F242-4BE1-8C23-D46CBAC2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776-8064-43F8-85CF-7CBB5540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F19-A82A-4C2E-B658-629E9DC4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2CC-546B-49A7-A7CA-AB70CB5B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E7A-0001-427A-9ADF-2AAF76FA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1F8-3CAF-43A0-982C-1EA77912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650-1E1E-4623-96B2-9B87E8D3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FDD-7A6B-40F6-92E5-E60029C9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ADDA-F879-45C9-B0EF-A4EDAA59F5A8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4A75-46A0-4558-AA1C-26625B2BEBAC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E2BB-1E17-4E4D-80B7-5741BFB90275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E0F3-E02A-4C59-898B-E6272FFDFD16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6762-DB12-4FDA-8D87-474118592B9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A20136C-BADC-44AF-914E-598073856BCB}" type="datetime3">
              <a:rPr lang="en-US"/>
              <a:t>July 29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654-CAC9-4240-A940-88BB322BA2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B3D95-4D69-4655-B5A2-0EE3DB869D30}" type="datetime3">
              <a:rPr lang="en-US"/>
              <a:t>July 29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059-A57A-4D7B-AAC4-1E03F96277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3BF9C-1668-4F74-8783-56A50C89AE6C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EED-979C-47A6-9491-94AF68BE4C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A9986-76A3-4C5E-B2E4-1C101218DCE4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E80-D2C3-4B56-9C99-75ACF60F4C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52479-B1BB-4C79-A902-DBADB334EC73}" type="datetime3">
              <a:rPr lang="en-US"/>
              <a:t>July 29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772-789E-4F1C-B041-60EEF55786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133F1-BB85-4550-B2E0-B715A1B7A9A0}" type="datetime3">
              <a:rPr lang="en-US"/>
              <a:t>July 29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974-FF29-4648-9DD5-05B2EF3A6EB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83C2B-4A22-4EFA-B55A-147C56DC47E7}" type="datetime3">
              <a:rPr lang="en-US"/>
              <a:t>July 29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F1D-E2D0-428D-BDFA-813A9388E8E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79507-3644-4492-A4AE-61C582E82C26}" type="datetime3">
              <a:rPr lang="en-US"/>
              <a:t>July 29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